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A94-65C6-42DD-8044-8EBFC6C9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ADC-2D00-41C8-A027-B7B51861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717-77E0-41F7-8AB3-D788ADFB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6B3-0245-46A8-9535-5057298A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83F-4C74-4936-A55D-D9EE72AC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FB8-3BB4-4962-A380-7EB7D0B5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424-E442-4357-A394-833BB1A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84E-294D-474B-86FE-8A83F22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67B-A429-48A0-8B71-8387248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290-873E-488B-8519-D00F432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E9F-00F9-4712-AAE5-DAE58FB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012-2B3A-41C9-9022-8105962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C9D-765E-4737-AF67-31529DCDD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K Conn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w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d all connections except those to or from port 8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1720" cy="507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3916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91040" cy="508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75520" cy="508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2936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78720" cy="50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63600" y="914400"/>
            <a:ext cx="650880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23:15:06Z</dcterms:created>
  <dc:creator>Venkata Pingali</dc:creator>
  <dc:description/>
  <dc:language>en-US</dc:language>
  <cp:lastModifiedBy>Venkata Pingali</cp:lastModifiedBy>
  <dcterms:modified xsi:type="dcterms:W3CDTF">2006-05-27T23:58:12Z</dcterms:modified>
  <cp:revision>24</cp:revision>
  <dc:subject/>
  <dc:title>PowerPoint Presentation</dc:title>
</cp:coreProperties>
</file>