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72FE-2BD0-4AF8-B457-3D208C6D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1E8F-3D1B-4C85-8A1C-56E37C17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75C4-28EA-4C96-B81A-A65AC1C3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7818-0F1D-4413-AD41-8F0A7C00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7E65-C666-4BC4-9CBF-8CD25C7D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8B71-2059-4CEE-B02D-7779FDD6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5E51-E12D-4154-848E-8F199FBE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FBB-EA4A-4274-A32C-9F144A00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9E78-85F0-49B9-8A0C-479E264F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9353-DC51-4141-A99D-295111C9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8E63-C033-4E18-BA1E-C17DEEB1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5A72-B987-43AC-AA88-DD36C32F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B1EA-C6DC-488E-A7DA-2EA1AF897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143000"/>
          <a:ext cx="7265880" cy="48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43000"/>
                    <a:ext cx="726588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90720" y="1066680"/>
          <a:ext cx="7265880" cy="483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066680"/>
                    <a:ext cx="7265880" cy="48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38080" y="1066680"/>
          <a:ext cx="7113600" cy="473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113600" cy="47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43000" y="914400"/>
          <a:ext cx="7189920" cy="478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718992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66680" y="1112760"/>
          <a:ext cx="6618240" cy="437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12760"/>
                    <a:ext cx="661824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90720" y="1143000"/>
          <a:ext cx="6999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43000"/>
                    <a:ext cx="6999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20:41:21Z</dcterms:created>
  <dc:creator>Venkata Pingali</dc:creator>
  <dc:description/>
  <dc:language>en-US</dc:language>
  <cp:lastModifiedBy>Venkata Pingali</cp:lastModifiedBy>
  <dcterms:modified xsi:type="dcterms:W3CDTF">2006-06-01T21:32:52Z</dcterms:modified>
  <cp:revision>3</cp:revision>
  <dc:subject/>
  <dc:title>PowerPoint Presentation</dc:title>
</cp:coreProperties>
</file>