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D324-4CB6-4F0E-8DFA-D7420D87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ED30-6C2B-423F-A345-58DB371F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3D79-7872-4580-9C23-EAD79C3F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E7F4-78ED-4208-BE50-6518B9B9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EDB2-3E55-4AF8-A420-A934BAF9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1B1-7B94-47EE-95E1-80757EB5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3F1-1F8E-4BFA-8E5C-7DE0FE31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43AF-5D7D-43F3-826F-5C244030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268F-370E-40DC-AB75-558B280D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CCD2-55D6-40A9-A5E7-A85239BA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BD63-517D-4261-99E3-2BCC9C9A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F85A-BDF5-4505-8F8A-B2F6D88E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033F-8833-4FF5-92E3-C3E753924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ent View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9K Conne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month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d all connections except those to or from port 8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7010280" cy="507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38800" cy="507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33640" y="838080"/>
            <a:ext cx="6791040" cy="508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31760" y="976320"/>
            <a:ext cx="7121520" cy="504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83280" cy="504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04200" cy="508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293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7T23:15:06Z</dcterms:created>
  <dc:creator>Venkata Pingali</dc:creator>
  <dc:description/>
  <dc:language>en-US</dc:language>
  <cp:lastModifiedBy>Venkata Pingali</cp:lastModifiedBy>
  <dcterms:modified xsi:type="dcterms:W3CDTF">2006-05-27T23:51:58Z</dcterms:modified>
  <cp:revision>14</cp:revision>
  <dc:subject/>
  <dc:title>PowerPoint Presentation</dc:title>
</cp:coreProperties>
</file>