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1D2A-C05F-408B-9AF3-FDDC632E0E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EE1A-443A-4338-A0FE-B293CF77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E857-8E5A-4550-A1AA-69EA23F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B872-F35C-45CB-A47D-A343BBDD3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3D68D-212C-49A2-9AD5-13E02BA4A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9ED05-60FB-4163-8648-7E1244DC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10D90-26F3-4195-BC17-CC266DD7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5C119-FEB6-45D7-9844-AF79A463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E0FB9-B376-40BB-AD57-DC0FCFEF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2BC7A-9E16-4CA1-8CAC-163F47D3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26C38-CC62-400F-BDF4-B1F6116E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3F89-EBEB-4F47-B2BD-559EA1D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A4869-D627-45A7-A829-2837BF0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C94C7-019F-49A8-9A53-DC9AA4EF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F88B1-8ABA-4AAC-9FCC-ABAF5F0B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9CD26-2E40-469F-A58D-B2ED5E0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2236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87880" y="181260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684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2236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87880" y="4126320"/>
            <a:ext cx="263340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0F898-F288-4F87-B52B-BF45DC595A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FECA-5637-4527-A3C3-ADEE744D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F7F0-636F-4479-83EF-A9D9C131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8D4F-6B6B-408C-9EC1-1C2F4EC4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19120" y="228240"/>
            <a:ext cx="6896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B946-57F2-4CAF-824E-BE0D5500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461A-8211-4D46-ACB5-F14E7B7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7600" y="412632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C931-9E19-46D7-BE32-BC9553FD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12600"/>
            <a:ext cx="399096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26320"/>
            <a:ext cx="81788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6094-FF7B-4F0F-BECF-7091865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7640" y="333360"/>
            <a:ext cx="11495160" cy="798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587600" y="5775480"/>
            <a:ext cx="1063152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812600"/>
            <a:ext cx="81788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708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86360" y="6351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5EA5-E20F-4558-9E48-315B791B643F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0000"/>
                </a:solidFill>
                <a:latin typeface="Arial"/>
              </a:rPr>
              <a:t>Copyright 2005, USC/ISI.  All rights reserved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54040" y="153972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2232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241200" y="566640"/>
            <a:ext cx="968400" cy="6145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08160" cy="3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647640" y="693720"/>
            <a:ext cx="11495160" cy="79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73320" y="6356520"/>
            <a:ext cx="47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0000"/>
                </a:solidFill>
                <a:latin typeface="Arial"/>
              </a:rPr>
              <a:t>Copyright 2005, USC/ISI.  All rights reserved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1611360" y="5711760"/>
            <a:ext cx="1088712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9760" y="1193760"/>
            <a:ext cx="75405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66200" y="6356160"/>
            <a:ext cx="1930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859440" y="62845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6EB1-AD4B-4B7B-992D-19332D4279C1}" type="slidenum">
              <a:rPr b="0" lang="en-US" sz="1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54040" y="2324160"/>
            <a:ext cx="775800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6462720"/>
            <a:ext cx="916632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07280" y="5365800"/>
            <a:ext cx="1519200" cy="906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41200" y="1246320"/>
            <a:ext cx="968400" cy="6141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0" y="0"/>
            <a:ext cx="9144000" cy="625320"/>
            <a:chOff x="0" y="0"/>
            <a:chExt cx="9144000" cy="62532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25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8242200" y="96840"/>
              <a:ext cx="6764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08160" cy="316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Raw Data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920" y="2389320"/>
          <a:ext cx="8804160" cy="20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389320"/>
                    <a:ext cx="880416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Quantization Table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521000"/>
          <a:ext cx="7518240" cy="39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521000"/>
                    <a:ext cx="7518240" cy="39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5562360"/>
            <a:ext cx="8255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Table generated offline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Input to AN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840" y="1987560"/>
          <a:ext cx="9005760" cy="28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1987560"/>
                    <a:ext cx="900576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2551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turns enums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(RemAddress, StartTime) &gt; (var1, var2,..)</a:t>
            </a:r>
            <a:endParaRPr b="0" lang="en-US" sz="2400" spc="-1" strike="noStrike">
              <a:solidFill>
                <a:srgbClr val="99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 3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nums and quantization table refined over time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19320" y="1579680"/>
          <a:ext cx="6637320" cy="44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663732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19120" y="228240"/>
            <a:ext cx="68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Quantization</a:t>
            </a:r>
            <a:endParaRPr b="0" lang="en-US" sz="4000" spc="-1" strike="noStrike">
              <a:solidFill>
                <a:srgbClr val="99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0:43:03Z</dcterms:created>
  <dc:creator>Venkata Pingali</dc:creator>
  <dc:description/>
  <dc:language>en-US</dc:language>
  <cp:lastModifiedBy>Venkata Pingali</cp:lastModifiedBy>
  <dcterms:modified xsi:type="dcterms:W3CDTF">2006-01-12T01:25:34Z</dcterms:modified>
  <cp:revision>7</cp:revision>
  <dc:subject/>
  <dc:title>Quantization</dc:title>
</cp:coreProperties>
</file>